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06B5-0C1D-4032-AE3C-68A47894B4A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운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카데메이아 정문 위의 경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하학을 모르는 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들어오지 말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천체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운동을 하지만 본질적으로 변하지는 않는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작도 끝도 없는 무한한 운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천상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작도 끝도 없는 완전한 운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속 원운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상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작과 끝이 있는 유한한 직선운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1F8-D400-4751-B9EF-3C9C2681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34920" y="3981600"/>
            <a:ext cx="673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76D-71D8-4D9D-A188-919C10F9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34920" y="398160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84800" y="398160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6AE-94EA-4CD2-99D0-829432BE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11200" y="175248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7480" y="175248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34920" y="398160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11200" y="398160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7480" y="398160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F52-3634-46D2-82C2-7C3AA392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66CD-C8B6-403A-BC35-746E4BD2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919A-C445-4079-AC08-E450C0B2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3270-8B19-4977-A937-324DD916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3C58-E5C5-4902-BC2C-CDA2E718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1C35-E222-4799-88CF-905124EC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34920" y="304920"/>
            <a:ext cx="67402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D743-570A-462D-BD5C-0519F8E2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834920" y="398160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63BE-378D-404D-B862-52474E29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665-675F-405A-B537-2EB738D4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84800" y="398160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9AAA-0B18-4C6F-8409-28571408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34920" y="3981600"/>
            <a:ext cx="673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6E65-F651-4753-9C90-BB220CFC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834920" y="3981600"/>
            <a:ext cx="673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EA33-86E9-4706-9837-E674E4C7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834920" y="398160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84800" y="398160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5B1A-7DA1-4756-A87C-DCE4B991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11200" y="175248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87480" y="175248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834920" y="398160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11200" y="398160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87480" y="3981600"/>
            <a:ext cx="2167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2B5A-65F5-4A6E-ABD0-5C9BD267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A949-6D8B-4677-A47B-7C0677EE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149A-8604-476D-AE2E-D8218E8E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C11-D8B0-4596-AE5A-BCC85F9E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34920" y="304920"/>
            <a:ext cx="674028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826-A336-4596-88A7-238BEE59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34920" y="398160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917-FC69-4BF5-ACF1-EF88AC34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84800" y="398160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0520-214E-4C3A-BE12-657A100F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84800" y="1752480"/>
            <a:ext cx="328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34920" y="3981600"/>
            <a:ext cx="673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0E5-890E-43D9-ADB3-052D3596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889560" indent="-427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278720" indent="-387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3" marL="1659600" indent="-3794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4" marL="2051640" indent="-38988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5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6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" name=""/>
          <p:cNvSpPr/>
          <p:nvPr/>
        </p:nvSpPr>
        <p:spPr>
          <a:xfrm>
            <a:off x="1835280" y="1557360"/>
            <a:ext cx="6732360" cy="1191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1835280" y="6165720"/>
            <a:ext cx="6699240" cy="648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4572-D780-4E24-8FB4-4759C0A4C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0" y="0"/>
          <a:ext cx="15318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531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2D3B-0117-4E6F-97A9-1517E108D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-1260360" y="-54000"/>
            <a:ext cx="10585440" cy="7094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340000" y="2565360"/>
            <a:ext cx="44956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1584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(한)한솔체B"/>
              </a:rPr>
              <a:t>플라톤과 아리스토텔레스</a:t>
            </a:r>
            <a:endParaRPr b="0" lang="en-US" sz="4400" spc="-1" strike="noStrike">
              <a:ln w="1584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(한)한솔체B"/>
              <a:ea typeface="(한)한솔체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아리스토텔레스의 운동 이론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운동≒변화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잠재적인 것이 현실화되는 과정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식물의 성장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씨앗의 잠재력이 실현되는 과정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위치의 변화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물질의 본성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본래 위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이 실현되는 과정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자연스러운 운동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강제된 운동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자연스러운 운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사물 자체의 속성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원인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의 발현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Eg.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천체의 원운동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돌의 수직낙하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불의 수직상승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강제된 운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별도의 외적 원인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동력인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필요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Eg.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수레의 운반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돛단배의 운동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(cf.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던져진 투창은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?)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저항과 진공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아마도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v ∝ F/R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If R→0, then v→∞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따라서 자연에 진공은 불가능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아리스토텔레스 체계의 특징과 설득력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vantGarde Bk BT"/>
              </a:rPr>
              <a:t>이론과 경험의 통일</a:t>
            </a: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vantGarde Bk BT"/>
              </a:rPr>
              <a:t>상식적이면서 탁월한 설명력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vantGarde Bk BT"/>
              </a:rPr>
              <a:t>고도로 일관되면서 동시에 매우 포괄적인 이론 체계 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vantGarde Bk BT"/>
              </a:rPr>
              <a:t>이분법적 이론 구조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347976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797120" y="3487680"/>
            <a:ext cx="2050920" cy="243036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430360"/>
              <a:gd name="textAreaBottom" fmla="*/ 2330280 h 2430360"/>
            </a:gdLst>
            <a:ahLst/>
            <a:rect l="textAreaLeft" t="textAreaTop" r="textAreaRight" b="textAreaBottom"/>
            <a:pathLst>
              <a:path w="21600" h="25596">
                <a:moveTo>
                  <a:pt x="3600" y="0"/>
                </a:moveTo>
                <a:arcTo wR="3600" hR="3600" stAng="16200000" swAng="-5400000"/>
                <a:lnTo>
                  <a:pt x="0" y="21996"/>
                </a:lnTo>
                <a:arcTo wR="3600" hR="3600" stAng="10800000" swAng="-5400000"/>
                <a:lnTo>
                  <a:pt x="18000" y="25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1812960" y="5276880"/>
            <a:ext cx="202392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812960" y="3506760"/>
            <a:ext cx="202392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490840" y="3213000"/>
            <a:ext cx="628560" cy="557280"/>
            <a:chOff x="2490840" y="3213000"/>
            <a:chExt cx="628560" cy="557280"/>
          </a:xfrm>
        </p:grpSpPr>
        <p:sp>
          <p:nvSpPr>
            <p:cNvPr id="143" name=""/>
            <p:cNvSpPr/>
            <p:nvPr/>
          </p:nvSpPr>
          <p:spPr>
            <a:xfrm>
              <a:off x="2490840" y="3213000"/>
              <a:ext cx="628560" cy="55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97320" y="3217320"/>
              <a:ext cx="607680" cy="5396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04880" y="3220560"/>
              <a:ext cx="593640" cy="52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1360" y="3225600"/>
              <a:ext cx="564480" cy="491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44120" y="3238920"/>
              <a:ext cx="501480" cy="399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624400" y="329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1838160" y="3873600"/>
            <a:ext cx="20116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우주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----------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천상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지상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4073400" y="347976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588d3d"/>
              </a:gs>
              <a:gs pos="100000">
                <a:srgbClr val="66af3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106880" y="3487680"/>
            <a:ext cx="2049480" cy="2430360"/>
          </a:xfrm>
          <a:custGeom>
            <a:avLst/>
            <a:gdLst>
              <a:gd name="textAreaLeft" fmla="*/ 99720 w 2049480"/>
              <a:gd name="textAreaRight" fmla="*/ 1949760 w 2049480"/>
              <a:gd name="textAreaTop" fmla="*/ 99720 h 2430360"/>
              <a:gd name="textAreaBottom" fmla="*/ 2330640 h 2430360"/>
            </a:gdLst>
            <a:ahLst/>
            <a:rect l="textAreaLeft" t="textAreaTop" r="textAreaRight" b="textAreaBottom"/>
            <a:pathLst>
              <a:path w="21600" h="25613">
                <a:moveTo>
                  <a:pt x="3600" y="0"/>
                </a:moveTo>
                <a:arcTo wR="3600" hR="3600" stAng="16200000" swAng="-5400000"/>
                <a:lnTo>
                  <a:pt x="0" y="22013"/>
                </a:lnTo>
                <a:arcTo wR="3600" hR="3600" stAng="10800000" swAng="-5400000"/>
                <a:lnTo>
                  <a:pt x="18000" y="25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4122720" y="5276880"/>
            <a:ext cx="202392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d844"/>
              </a:gs>
              <a:gs pos="100000">
                <a:srgbClr val="c6e8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4122720" y="3506760"/>
            <a:ext cx="202392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cf1bf"/>
              </a:gs>
              <a:gs pos="100000">
                <a:srgbClr val="99d8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3213000"/>
            <a:ext cx="628560" cy="557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4807080" y="3218040"/>
            <a:ext cx="608040" cy="5396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815000" y="3219480"/>
            <a:ext cx="593640" cy="5284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4821120" y="3225960"/>
            <a:ext cx="565200" cy="4903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4856040" y="3238560"/>
            <a:ext cx="500040" cy="3999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934160" y="329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4148280" y="3873600"/>
            <a:ext cx="200952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물질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----------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제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5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흙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,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물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,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공기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,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6383160" y="347976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ab4e47"/>
              </a:gs>
              <a:gs pos="100000">
                <a:srgbClr val="c1623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415200" y="3487680"/>
            <a:ext cx="2050920" cy="243036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430360"/>
              <a:gd name="textAreaBottom" fmla="*/ 2330280 h 2430360"/>
            </a:gdLst>
            <a:ahLst/>
            <a:rect l="textAreaLeft" t="textAreaTop" r="textAreaRight" b="textAreaBottom"/>
            <a:pathLst>
              <a:path w="21600" h="25596">
                <a:moveTo>
                  <a:pt x="3600" y="0"/>
                </a:moveTo>
                <a:arcTo wR="3600" hR="3600" stAng="16200000" swAng="-5400000"/>
                <a:lnTo>
                  <a:pt x="0" y="21996"/>
                </a:lnTo>
                <a:arcTo wR="3600" hR="3600" stAng="10800000" swAng="-5400000"/>
                <a:lnTo>
                  <a:pt x="18000" y="25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8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6432480" y="5276880"/>
            <a:ext cx="202428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8b65"/>
              </a:gs>
              <a:gs pos="100000">
                <a:srgbClr val="f1bb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6432480" y="3506760"/>
            <a:ext cx="202428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d7ca"/>
              </a:gs>
              <a:gs pos="100000">
                <a:srgbClr val="e98b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110360" y="3213000"/>
            <a:ext cx="628560" cy="557280"/>
            <a:chOff x="7110360" y="3213000"/>
            <a:chExt cx="628560" cy="557280"/>
          </a:xfrm>
        </p:grpSpPr>
        <p:sp>
          <p:nvSpPr>
            <p:cNvPr id="166" name=""/>
            <p:cNvSpPr/>
            <p:nvPr/>
          </p:nvSpPr>
          <p:spPr>
            <a:xfrm>
              <a:off x="7110360" y="3213000"/>
              <a:ext cx="628560" cy="55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16840" y="3217320"/>
              <a:ext cx="607680" cy="5396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24400" y="3220560"/>
              <a:ext cx="593640" cy="52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30880" y="3225600"/>
              <a:ext cx="564480" cy="491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3640" y="3238920"/>
              <a:ext cx="501480" cy="399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242480" y="329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6458040" y="3873600"/>
            <a:ext cx="200952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운동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----------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자연스러운 운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강제된 운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3564000" y="3860640"/>
            <a:ext cx="863640" cy="576360"/>
          </a:xfrm>
          <a:prstGeom prst="leftRightArrow">
            <a:avLst>
              <a:gd name="adj1" fmla="val 50000"/>
              <a:gd name="adj2" fmla="val 29830"/>
            </a:avLst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3933720"/>
            <a:ext cx="863640" cy="576360"/>
          </a:xfrm>
          <a:prstGeom prst="leftRightArrow">
            <a:avLst>
              <a:gd name="adj1" fmla="val 50000"/>
              <a:gd name="adj2" fmla="val 29830"/>
            </a:avLst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고대 자연철학의 유산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자연세계의 합리성과 질서 포착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이성을 통한 이해 가능성 동의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철학의 목표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: ‘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우연’보다 ‘본질’과 ‘보편’ 탐구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근대과학의 대표적인 탐구 경향 등장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기계적 경향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원자론자들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극히 소수였음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수학적 경향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플라톤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피타고라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지상계 설명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X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경험적 경향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아리스토텔레스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(not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실험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but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관조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근대와 고대의 거리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&lt;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근대와 중세의 거리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과학혁명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세 경향의 새로운 조합방식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고대인들에게 자연철학이란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Thank you!!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차례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플라톤과 아리스토텔레스 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플라톤의 자연철학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아리스토텔레스의 자연철학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플라톤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우주론 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물질 이론 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운동 이론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특징과 설득력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고대 자연철학의 유산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고대인들에게 자연철학이란</a:t>
            </a: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플라톤과 아리스토텔레스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소크라테스 이후의 지적 지형도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소크라테스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 플라톤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 아리스토텔레스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플라톤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Platon, 428-327 B.C.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소크라테스의 愛 제자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소크라테스 사후 이탈리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이집트 여행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아테네로 돌아온 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아카데메이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Akademeia)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설립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아리스토텔레스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Aristoteles, 384-322 B.C.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플라톤의 愛 제자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플라톤 사후 에게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소아시아 여행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아테네로 돌아온 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리케이움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Lykeion)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설립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플라톤의 자연철학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1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이데아론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35280" y="1752480"/>
            <a:ext cx="669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목적론적 세계관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목수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의자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=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조물주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세계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우주는 조물주의 합리적 설계의 산물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합리적 설계 ≒ 수학적 원리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현실세계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이데아의 불완전한 복제품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※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반경험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수학적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추상적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형이상학적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(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관념적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) 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방법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484360" y="3429000"/>
          <a:ext cx="3291120" cy="2038320"/>
        </p:xfrm>
        <a:graphic>
          <a:graphicData uri="http://schemas.openxmlformats.org/drawingml/2006/table">
            <a:tbl>
              <a:tblPr/>
              <a:tblGrid>
                <a:gridCol w="1646280"/>
                <a:gridCol w="16448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현실세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이데아세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모형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복제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실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불완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(∵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질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생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변화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소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완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영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감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이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" descr=""/>
          <p:cNvPicPr/>
          <p:nvPr/>
        </p:nvPicPr>
        <p:blipFill>
          <a:blip r:embed="rId2"/>
          <a:srcRect l="6236" t="2585" r="5244" b="3877"/>
          <a:stretch/>
        </p:blipFill>
        <p:spPr>
          <a:xfrm>
            <a:off x="6877080" y="1916280"/>
            <a:ext cx="1698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플라톤의 자연철학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2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수학과 기하학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천체의 등속 원운동</a:t>
            </a: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이성적 추론의 산물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vantGarde Bk BT"/>
              </a:rPr>
              <a:t>영원하며 초월적이며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vantGarde Bk BT"/>
              </a:rPr>
              <a:t>완벽한 순수 형상의 세계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vantGarde Bk BT"/>
              </a:rPr>
              <a:t>운동을 하지만 본질적으로 변하지 않아야 함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vantGarde Bk BT"/>
              </a:rPr>
              <a:t>적합한 운동은 오직 등속 원운동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vantGarde Bk BT"/>
              </a:rPr>
              <a:t>이후 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AvantGarde Bk BT"/>
              </a:rPr>
              <a:t>년간 천문학의 패러다임 이룸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기하학적 </a:t>
            </a: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4(5) </a:t>
            </a: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원소론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340000" y="4591080"/>
            <a:ext cx="59040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아리스토텔레스의 자연철학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35280" y="1752480"/>
            <a:ext cx="417672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목적론적 세계관 공유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, But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이데아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현실세계 이분법 비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이데아는 물질 속에 존재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908000" y="3429000"/>
          <a:ext cx="6659640" cy="1690560"/>
        </p:xfrm>
        <a:graphic>
          <a:graphicData uri="http://schemas.openxmlformats.org/drawingml/2006/table">
            <a:tbl>
              <a:tblPr/>
              <a:tblGrid>
                <a:gridCol w="1080360"/>
                <a:gridCol w="2769840"/>
                <a:gridCol w="28094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플라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아리스토텔레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실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이데아의 세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현실 세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감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불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경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&lt;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관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신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탐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수학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추상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형이상학적 추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경험→분류→배후의 질서 탐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835280" y="5300640"/>
            <a:ext cx="67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※</a:t>
            </a:r>
            <a:r>
              <a:rPr b="0" lang="en-US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	</a:t>
            </a:r>
            <a:r>
              <a:rPr b="0" lang="zh-CN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우주론</a:t>
            </a:r>
            <a:r>
              <a:rPr b="0" lang="en-US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, </a:t>
            </a:r>
            <a:r>
              <a:rPr b="0" lang="zh-CN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물질이론</a:t>
            </a:r>
            <a:r>
              <a:rPr b="0" lang="en-US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, </a:t>
            </a:r>
            <a:r>
              <a:rPr b="0" lang="zh-CN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운동이론 등이 정합적으로 결합된 완전한 지식 체계 구축 → 이후 </a:t>
            </a:r>
            <a:r>
              <a:rPr b="0" lang="en-US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2000</a:t>
            </a:r>
            <a:r>
              <a:rPr b="0" lang="zh-CN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년간  유럽의 정통 이론</a:t>
            </a:r>
            <a:r>
              <a:rPr b="0" lang="en-US" sz="2200" spc="-1" strike="noStrike">
                <a:solidFill>
                  <a:srgbClr val="cc0000"/>
                </a:solidFill>
                <a:latin typeface="AvantGarde Bk BT"/>
                <a:ea typeface="가는각진제목체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1220760" cy="11221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6222600" y="2146320"/>
            <a:ext cx="2806200" cy="1143360"/>
            <a:chOff x="6222600" y="2146320"/>
            <a:chExt cx="2806200" cy="1143360"/>
          </a:xfrm>
        </p:grpSpPr>
        <p:sp>
          <p:nvSpPr>
            <p:cNvPr id="113" name=""/>
            <p:cNvSpPr/>
            <p:nvPr/>
          </p:nvSpPr>
          <p:spPr>
            <a:xfrm flipH="1">
              <a:off x="7121160" y="2336760"/>
              <a:ext cx="47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18760" y="2146320"/>
              <a:ext cx="13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vantGarde Bk BT"/>
                  <a:ea typeface="가는각진제목체"/>
                </a:rPr>
                <a:t>이데아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Bk BT"/>
                  <a:ea typeface="가는각진제목체"/>
                </a:rPr>
                <a:t>(form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22600" y="2708280"/>
              <a:ext cx="204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가는각진제목체"/>
                  <a:ea typeface="가는각진제목체"/>
                </a:rPr>
                <a:t>플라톤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가는각진제목체"/>
                  <a:ea typeface="가는각진제목체"/>
                </a:rPr>
                <a:t>(</a:t>
              </a:r>
              <a:r>
                <a:rPr b="0" lang="zh-CN" sz="1400" spc="-1" strike="noStrike">
                  <a:solidFill>
                    <a:srgbClr val="000000"/>
                  </a:solidFill>
                  <a:latin typeface="가는각진제목체"/>
                  <a:ea typeface="가는각진제목체"/>
                </a:rPr>
                <a:t>모든 개는 이데아의 불완전한 복제</a:t>
              </a:r>
              <a:r>
                <a:rPr b="0" lang="en-US" sz="1400" spc="-1" strike="noStrike">
                  <a:solidFill>
                    <a:srgbClr val="000000"/>
                  </a:solidFill>
                  <a:latin typeface="가는각진제목체"/>
                  <a:ea typeface="가는각진제목체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041880" y="1773360"/>
            <a:ext cx="2987280" cy="1587600"/>
            <a:chOff x="6041880" y="1773360"/>
            <a:chExt cx="2987280" cy="1587600"/>
          </a:xfrm>
        </p:grpSpPr>
        <p:sp>
          <p:nvSpPr>
            <p:cNvPr id="117" name=""/>
            <p:cNvSpPr/>
            <p:nvPr/>
          </p:nvSpPr>
          <p:spPr>
            <a:xfrm flipV="1">
              <a:off x="7092720" y="1989000"/>
              <a:ext cx="60948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92720" y="2347920"/>
              <a:ext cx="60948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69440" y="1773360"/>
              <a:ext cx="13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vantGarde Bk BT"/>
                  <a:ea typeface="가는각진제목체"/>
                </a:rPr>
                <a:t>이데아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Bk BT"/>
                  <a:ea typeface="가는각진제목체"/>
                </a:rPr>
                <a:t>(form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52160" y="2565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vantGarde Bk BT"/>
                  <a:ea typeface="가는각진제목체"/>
                </a:rPr>
                <a:t>물질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Bk BT"/>
                  <a:ea typeface="가는각진제목체"/>
                </a:rPr>
                <a:t>(matter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41880" y="2779560"/>
              <a:ext cx="18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가는각진제목체"/>
                  <a:ea typeface="가는각진제목체"/>
                </a:rPr>
                <a:t>아리스토텔레스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가는각진제목체"/>
                  <a:ea typeface="가는각진제목체"/>
                </a:rPr>
                <a:t>(</a:t>
              </a:r>
              <a:r>
                <a:rPr b="0" lang="zh-CN" sz="1400" spc="-1" strike="noStrike">
                  <a:solidFill>
                    <a:srgbClr val="000000"/>
                  </a:solidFill>
                  <a:latin typeface="가는각진제목체"/>
                  <a:ea typeface="가는각진제목체"/>
                </a:rPr>
                <a:t>모든 개는 형상과 물질을 가짐</a:t>
              </a:r>
              <a:r>
                <a:rPr b="0" lang="en-US" sz="1400" spc="-1" strike="noStrike">
                  <a:solidFill>
                    <a:srgbClr val="000000"/>
                  </a:solidFill>
                  <a:latin typeface="가는각진제목체"/>
                  <a:ea typeface="가는각진제목체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아리스토텔레스의 우주론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35280" y="1752480"/>
            <a:ext cx="66974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항성 천구 실재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영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달을 기준으로 천상계와 지상계 구분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cf.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혜성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?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3014" t="0" r="1567" b="0"/>
          <a:stretch/>
        </p:blipFill>
        <p:spPr>
          <a:xfrm>
            <a:off x="1979640" y="2852640"/>
            <a:ext cx="3600360" cy="299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5651640" y="2852640"/>
          <a:ext cx="2842920" cy="2975040"/>
        </p:xfrm>
        <a:graphic>
          <a:graphicData uri="http://schemas.openxmlformats.org/drawingml/2006/table">
            <a:tbl>
              <a:tblPr/>
              <a:tblGrid>
                <a:gridCol w="590400"/>
                <a:gridCol w="1066680"/>
                <a:gridCol w="11858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천상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지상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위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달 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달 아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특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변화 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완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생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소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불완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물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원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에테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원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공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운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원운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상하운동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+alp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아리스토텔레스의 물질 이론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1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18328" t="21372" r="35208" b="21828"/>
          <a:stretch/>
        </p:blipFill>
        <p:spPr>
          <a:xfrm>
            <a:off x="2484360" y="3282840"/>
            <a:ext cx="2808360" cy="2722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vantGarde Bk BT"/>
              </a:rPr>
              <a:t>원소의 무게와 위치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무게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물질의 본래적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자연적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) 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위치 규정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흙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물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공기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불</a:t>
            </a: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vantGarde Bk BT"/>
              </a:rPr>
              <a:t>에테르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3213000"/>
            <a:ext cx="3348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탁월한 설명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* </a:t>
            </a:r>
            <a:r>
              <a:rPr b="0" lang="zh-CN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호수와 바다가 흙 위에 있는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* </a:t>
            </a:r>
            <a:r>
              <a:rPr b="0" lang="zh-CN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물속에서 기포가 올라가는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* </a:t>
            </a:r>
            <a:r>
              <a:rPr b="0" lang="zh-CN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공기 중의 불이 올라가는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* </a:t>
            </a:r>
            <a:r>
              <a:rPr b="0" lang="zh-CN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우주의 중심에 지구가 있는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* </a:t>
            </a:r>
            <a:r>
              <a:rPr b="0" lang="zh-CN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지구가 구형인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* (</a:t>
            </a:r>
            <a:r>
              <a:rPr b="0" lang="zh-CN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지동설 논박</a:t>
            </a:r>
            <a:r>
              <a:rPr b="0" lang="en-US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아리스토텔레스의 물질 이론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2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34920" y="1752480"/>
            <a:ext cx="67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4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원소와 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4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성질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4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성질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온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냉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건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습 대립쌍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원소의 성질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: 4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성질 중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2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개의 조합으로 구성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성질이 바뀌면 원소도 바뀜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411280" y="3784680"/>
            <a:ext cx="3384720" cy="3073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867280" y="3860640"/>
            <a:ext cx="2808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탁월한 설명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* </a:t>
            </a:r>
            <a:r>
              <a:rPr b="0" lang="zh-CN" sz="18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물을 가열하면 증발하는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연금술에 이론적 기반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6:23:19Z</dcterms:created>
  <dc:creator>Woogie</dc:creator>
  <dc:description/>
  <dc:language>en-US</dc:language>
  <cp:lastModifiedBy>Woogie</cp:lastModifiedBy>
  <dcterms:modified xsi:type="dcterms:W3CDTF">2007-03-16T10:49:16Z</dcterms:modified>
  <cp:revision>9</cp:revision>
  <dc:subject/>
  <dc:title>슬라이드 1</dc:title>
</cp:coreProperties>
</file>